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233-C8B5-4964-92B6-F50F519D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ABAE-5A6D-46BF-B04E-DDFB38F7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8434-3B4D-4F2B-80EB-68ABD911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C4B-F66C-4632-BE39-66C4FF8E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19C3-2DD2-4B40-B49C-34FD6CFB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953A-BAC1-439A-BB42-E9FB49ED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C23F-F94D-4CC8-A9F9-D191D35A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7ED4-CFAF-4729-AF40-F40D1E10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04E0-CAEA-45FA-BEA4-D1BF8E8E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881A-281B-4B43-BB44-A4BA710F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FC73-C6D8-492F-8783-AA8C58DC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8474-3AE7-4FEA-A999-B8817B8B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C1FE-0810-47DD-BBB9-E960D0EC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AE86-2B38-4E8B-846B-AE1D4770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855F-675D-4B76-BDF7-96C4E083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1662-89F7-4C57-81C2-45F1173E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CD91-AE47-495A-B77A-77152E7C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F98-6BC3-4DEA-BEF4-751942EC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6AA2-5184-4CCA-9E58-844C6C42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6A7A-4CB6-46D2-B8D5-60D41C35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47F-4190-45AE-848B-6A55D00D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4A33-9FA3-44E9-BB95-090CC381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388-3877-40BE-AA18-310E5598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433-DD4D-40DB-A743-ECDE2D79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95AD-BDEC-49EA-ADEA-5E12F8D7B34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0F3B-6362-4886-8766-B8D44E417F9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ll There Was No Remed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Divided Kingdom –Part 1)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Quarter 6 – Lesson 19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gs.73-77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2 Kings 10-1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ssyrian Empi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 Kingdom Northeast of Isra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apital at Nineveh on the Tigris Riv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halmaneser III – 859BC-824B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rying to get through these little kingdoms to get to Egyp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70812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105520" y="1828800"/>
            <a:ext cx="1143000" cy="4572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5213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464832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ineveh: Built by Asshur (Gen 10:11), Nineveh was the dwelling place of Sennacherib the king of Assyria (Isa 37:37) and was the city to whom God instructed Jonah to go and preach (Jonah 1:2; Jonah 3:2-6). It is thought that Nineveh was settled around 6000 B.C. by Asshur (Gen. 10:11). The name "Nineveh" may come from the word "Nina" (river goddess) or "Ninuwa;" the name appears in ancient cuneiform texts as well as in the Bible. The cuneiform symbol for the word is a fish in an enclo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5372280" cy="4029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638680" y="762120"/>
            <a:ext cx="3019680" cy="4029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07600" y="4952880"/>
            <a:ext cx="484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nnacherib praying relief from Ninev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5334120"/>
            <a:ext cx="32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nnacherib relief in limestone from Ninev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514440"/>
            <a:ext cx="7772400" cy="5829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063520" y="380880"/>
            <a:ext cx="53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nnacherib relief in limestone from Ninev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yria Influence Over Israel &amp; Judah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Juda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thaliah – the Usurper reigns in Juda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Joash – 40 years (evil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ehoiada Executes Athaliah – 2 Kgs.11:1-1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vates Joash to the thr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sra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Jehu – forced to pay tribute to Assyria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Hazael begins to cut Israel Short –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Takes Eastern Side of Jord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70812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05520" y="1828800"/>
            <a:ext cx="1143000" cy="4572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4T00:41:20Z</dcterms:created>
  <dc:creator>Terry W. Benton</dc:creator>
  <dc:description/>
  <dc:language>en-US</dc:language>
  <cp:lastModifiedBy>Frank D Vines</cp:lastModifiedBy>
  <dcterms:modified xsi:type="dcterms:W3CDTF">2005-09-04T04:51:58Z</dcterms:modified>
  <cp:revision>1</cp:revision>
  <dc:subject/>
  <dc:title>Till There Was No Remedy (Divided Kingdom –Part 1)</dc:title>
</cp:coreProperties>
</file>